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FFC1-E760-44F6-A8CF-BFC2AC996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  Water + Carbon  + energ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Water + Carbon  +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BCB-EF26-4FE1-B9DB-65A653F4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CEA-F5A1-4A3E-885F-4B35A3EC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484-43DF-412C-96FA-D29B8B9E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FE2-75D5-4FE8-A882-15906741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1E8FD-5D50-4DDC-810C-6057BDF3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2BC58-4E70-4654-A460-377FD7FD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4FF98-AD03-499B-9784-E6BD9134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C004B-CA44-4CCC-B2C9-FF737E22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9B443-88AA-4FFD-A240-DC8D2B17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27403-F13C-4469-A47A-2651D2D6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C8734-6BC0-4EB0-B0CD-5412190D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AB9-EF82-444F-9AD6-585233E9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EAF1B-7EF8-4971-8030-6B169F02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65736-E4E2-4573-AD06-A5C07666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984C7-D318-4B6D-A1C9-1E876B89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5E565-7770-417D-B1BA-2FC6BAF0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49BFB-F1D7-4134-887E-2F1F614E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97C-4C5E-45EA-AF8A-DD8E01C3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FDE-32FC-4E9D-A5CE-FFE3B35A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9B5-5B30-42E1-9FAE-D54B0B78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58F-0D3A-4C0E-A82B-3BD4D914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7BC-DAFD-4707-84BB-E2900929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546-0E88-4268-8A92-B5461886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6FC-3279-457A-9714-FBE5EE1B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15B4-AD96-4968-BAA5-94091DAAF8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7BD2-4543-4960-BC01-F6D1EB55643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ff"/>
                </a:solidFill>
                <a:latin typeface="Tahoma"/>
              </a:rPr>
              <a:t>Animal survival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Water and waste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Aims of today…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be 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dentify ways in which a mammal gains and loses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te that the kidneys are the main organs for regulating the water content in a mam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he role of ADH in the regulation of water bal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70 % of our bodies are wat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e gain liquid from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40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itsel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od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mical reaction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905120"/>
          <a:ext cx="4038480" cy="4114800"/>
        </p:xfrm>
        <a:graphic>
          <a:graphicData uri="http://schemas.openxmlformats.org/drawingml/2006/table">
            <a:tbl>
              <a:tblPr/>
              <a:tblGrid>
                <a:gridCol w="2228760"/>
                <a:gridCol w="180972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et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he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rnf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cose + oxygen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 Carbon  + energ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ffffff"/>
                </a:solidFill>
                <a:latin typeface="Tahoma"/>
              </a:rPr>
              <a:t>We lose water through…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Sweat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Breat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Urine (kidneys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Faeces (easily expelled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0% of our bodies ar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ys constant due to our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dney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ots of water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ts of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ittle water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ttle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D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idneys are controlled by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-diuretic hormon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DH) released from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tuitary gland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ttached to brai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H (a hormone) controls volume of water reabsorbed and returned to bloodstream by kidn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not reabsorbed passes to bladder as urine to be expe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AutoShape 6"/>
          <p:cNvCxnSpPr>
            <a:stCxn id="106" idx="0"/>
            <a:endCxn id="107" idx="1"/>
          </p:cNvCxnSpPr>
          <p:nvPr/>
        </p:nvCxnSpPr>
        <p:spPr>
          <a:xfrm flipH="1" flipV="1" rot="5400000">
            <a:off x="3854160" y="1415520"/>
            <a:ext cx="2342520" cy="9230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Text Box 7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1" name="AutoShape 8"/>
          <p:cNvCxnSpPr>
            <a:stCxn id="106" idx="0"/>
            <a:endCxn id="108" idx="3"/>
          </p:cNvCxnSpPr>
          <p:nvPr/>
        </p:nvCxnSpPr>
        <p:spPr>
          <a:xfrm flipV="1" rot="16200000">
            <a:off x="2787480" y="1270800"/>
            <a:ext cx="2265840" cy="12880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Text Box 9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4" name="AutoShape 11"/>
          <p:cNvCxnSpPr>
            <a:stCxn id="108" idx="1"/>
            <a:endCxn id="113" idx="0"/>
          </p:cNvCxnSpPr>
          <p:nvPr/>
        </p:nvCxnSpPr>
        <p:spPr>
          <a:xfrm flipV="1" rot="10800000">
            <a:off x="646920" y="782280"/>
            <a:ext cx="724680" cy="19612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Text Box 12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AutoShape 13"/>
          <p:cNvCxnSpPr>
            <a:stCxn id="113" idx="2"/>
            <a:endCxn id="115" idx="1"/>
          </p:cNvCxnSpPr>
          <p:nvPr/>
        </p:nvCxnSpPr>
        <p:spPr>
          <a:xfrm flipH="1" rot="16200000">
            <a:off x="167400" y="4151520"/>
            <a:ext cx="1989720" cy="10296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AutoShape 14"/>
          <p:cNvCxnSpPr>
            <a:stCxn id="115" idx="3"/>
            <a:endCxn id="106" idx="2"/>
          </p:cNvCxnSpPr>
          <p:nvPr/>
        </p:nvCxnSpPr>
        <p:spPr>
          <a:xfrm flipV="1">
            <a:off x="3034800" y="3698640"/>
            <a:ext cx="1529640" cy="196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Text Box 15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0" name="AutoShape 17"/>
          <p:cNvCxnSpPr>
            <a:stCxn id="107" idx="3"/>
            <a:endCxn id="118" idx="0"/>
          </p:cNvCxnSpPr>
          <p:nvPr/>
        </p:nvCxnSpPr>
        <p:spPr>
          <a:xfrm>
            <a:off x="7467480" y="705960"/>
            <a:ext cx="1013760" cy="21898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18" idx="2"/>
            <a:endCxn id="119" idx="3"/>
          </p:cNvCxnSpPr>
          <p:nvPr/>
        </p:nvCxnSpPr>
        <p:spPr>
          <a:xfrm rot="5400000">
            <a:off x="6969960" y="4073040"/>
            <a:ext cx="1762920" cy="12582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9" idx="1"/>
            <a:endCxn id="106" idx="2"/>
          </p:cNvCxnSpPr>
          <p:nvPr/>
        </p:nvCxnSpPr>
        <p:spPr>
          <a:xfrm rot="10800000">
            <a:off x="4563360" y="3698280"/>
            <a:ext cx="1303920" cy="188496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 Box 20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4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7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8:17:50Z</dcterms:created>
  <dc:creator>test</dc:creator>
  <dc:description/>
  <dc:language>en-US</dc:language>
  <cp:lastModifiedBy>RomaK</cp:lastModifiedBy>
  <dcterms:modified xsi:type="dcterms:W3CDTF">2015-09-02T05:53:34Z</dcterms:modified>
  <cp:revision>7</cp:revision>
  <dc:subject/>
  <dc:title>Animal survival</dc:title>
</cp:coreProperties>
</file>